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3AD7-F659-40B1-BD5F-D8FDB3D01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EA58-AB70-4836-97ED-8C7CA3F40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CFBD-74C3-4ED3-9802-200AE1CB7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9BE2-F79F-4EBD-BFD6-C9E684D7F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F8DB-86EA-4CFA-8FE1-88FEF93D1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15AB-D9C9-4FA3-AFC2-4F81499E8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2C3F-6AE1-435F-8745-3962646EE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CF90-79B4-4EC5-9B97-9251D2748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A7C5-62BC-4F8F-8EA9-4D95BB015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3D2F-F392-4FB4-B19C-365230AD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4518-90CD-4DE3-972E-D4EB05E9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3CF9-3E68-4B09-817E-160E5883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2893E1-C8E5-4E30-9034-48E5AD3DA06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9FEB20-7EF2-4EC2-9EC0-43D07BEA6C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71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ic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Is carbon                             a metal or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metal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ic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Is lithium                              a metal or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metal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icient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How many valence electrons does Na have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ic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Is krypton                             a metal or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metal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ic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Is zirconium                              a metal or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metal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icient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How many valence electrons does B have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ic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What family does sodium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long to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ic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What family does neo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long to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icient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How many valence electrons does Mg have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ic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What family does bromin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long to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ic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What family does platinum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long to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icient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How many valence electrons does Si have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icient - Which of the following statements about beryllium is fals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symbol is B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atomic number is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a nonme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has 6 valence elec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icient - Which of the following statements about sulfur is fals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symbol is 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atomic number is 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a nonme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has 2 valence elec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icient - Which of the following statements about boron is fals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symbol is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atomic number is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atomic mass is 10.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has 8 valence elec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icient - Which of the following statements about fluorine is fals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symbol is F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atomic number is 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a transition me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has 7 valence elec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icient - Which of the following statements about argon is fals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symbol is 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atomic number is 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a alkali me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has 8 valence elec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icient - Which of the following statements about aluminum is fals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symbol is 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atomic number is 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a nonme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has 3 valence elec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icient - Which of the following statements about chromium is fals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symbol is C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atomic number is 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atomic mass is 51.9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a transition me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icient - Which of the following statements about phosphorus is fals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symbol is 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atomic number is 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a nonme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has 5 valence elec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icient - Which of the following statements about xenon is fals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symbol is X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atomic number is 1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a noble g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has 8 valence elec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icient - Which of the following statements about hydrogen is fals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symbol is H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atomic number is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a nonme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has 1 valence electr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icient - Which of the following statements about iodine is fals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symbol is D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atomic number is 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a haloge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has 7 valence elec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icient - Which of the following statements about radon is fals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symbol is 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atomic number is 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a noble g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has 8 valence elec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71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ic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What is the atomic number of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allium (Tl)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ic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What is the atomic number of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lver (Ag)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ic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What is the atomic number of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lium (He) 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ic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What is the atomic number of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cium (Ca)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ic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What is the atomic number of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m (Ra)  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ic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What is the atomic number of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pper (Cu)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ic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What is the atomic mass of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ancium (Fr)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ic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What is the atomic mass of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trogen (N) 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ic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What is the atomic mass of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onium (Po)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ic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What is the atomic mass of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rypton (Kr)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ic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What is the atomic mass of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trium (Y)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ic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What is the atomic mass of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thium (Li)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ic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What is the symbol of oxygen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ic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What is the symbol of zinc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icient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How many valence electrons does N have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ic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What is the symbol of cobalt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ic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What is the symbol of neon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icient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How many valence electrons does O have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ic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What does Sn stand for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ic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What does Au    stand for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icient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How many valence electrons does Cl have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ic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What does Pb    stand for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ic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What does Fe    stand for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icient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How many valence electrons does Ar have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ic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What is H</a:t>
                      </a:r>
                      <a:r>
                        <a:rPr b="0" lang="en-US" sz="3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ic 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What is CO</a:t>
                      </a:r>
                      <a:r>
                        <a:rPr b="0" lang="en-US" sz="3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ic 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What is C</a:t>
                      </a:r>
                      <a:r>
                        <a:rPr b="0" lang="en-US" sz="3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r>
                        <a:rPr b="0" lang="en-US" sz="3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r>
                        <a:rPr b="0" lang="en-US" sz="3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ic 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What is HCl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ic 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What is NaCl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ic 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What is O</a:t>
                      </a:r>
                      <a:r>
                        <a:rPr b="0" lang="en-US" sz="3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icient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The following equation shows the combustion of sucros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+ 12 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C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+ 11 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is the chemical formula for sucros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icient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- The following equation shows the chemical reaction that occurs during the combustion of propan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+ 5 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3 C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+ 4 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is the chemical formula of propan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icient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- The following equation shows the chemical reaction that occurs during the decomposition of hydrogen peroxid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+ 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is the chemical formula of hydrogen peroxide?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icient 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What is the chemical formula for water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icient 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What is the chemical formula for sugar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icient 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What is the chemical formula for table salt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icient- What are the reactants in this equation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n + 2 HCl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ZnCl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+ 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icient- What are the reactants in this equation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+ 8 Cl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10 C + 16 HC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icient- What are the reactants in this equation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Al +  3 O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 Al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icient- What are the reactants in this equation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Al + 3 FeO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l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+ 3 F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icient- What are the reactants in this equation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+ 12 O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10 CO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+ 4 H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icient- What are the reactants in this equation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HCl +  CaC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CaC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+ C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icient- What are the products in this equation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Na +  2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 NaOH + 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icient- What are the products in this equation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+ 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 LiO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icient- What are the products in this equation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 + O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SO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icient- What are the products in this equation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+ C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4 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+ CO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icient- What are the products in this equation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Na + Cl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 NaC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icient- What are the products in this equation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 + 2AgN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Ag + Cu(N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04:00:25Z</dcterms:created>
  <dc:creator>Caroline Roth</dc:creator>
  <dc:description/>
  <dc:language>en-US</dc:language>
  <cp:lastModifiedBy>Caroline Roth</cp:lastModifiedBy>
  <cp:lastPrinted>2011-04-19T04:57:22Z</cp:lastPrinted>
  <dcterms:modified xsi:type="dcterms:W3CDTF">2011-04-19T04:57:42Z</dcterms:modified>
  <cp:revision>11</cp:revision>
  <dc:subject/>
  <dc:title>Slide 1</dc:title>
</cp:coreProperties>
</file>